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ods start at 29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ad 4th Generation start at 49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ad mini start at 32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Pass out iDevices, Hand Gestures, Siri commands, and VO HO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ands on practice with: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afari w/Reade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Book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ccessibility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afari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Book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ccessibility 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amera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5 mega pixel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What Ss have used..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downloaded free book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lgebra study app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essaging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use camera to take pictures of board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LLOW FOR HANDS-ON after I go through the items for each section (Vision &gt; VO &gt; Siri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Zoom Level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100% - 500%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Dbl tap = 200%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Large Type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up to 56 pt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VO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peak Hint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Typing echo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984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965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89496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19304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11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1026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540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638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277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79200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m.youtube.com/watch?v=KvLoUNlwNBM" TargetMode="Externa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CS_1.png"/>
          <p:cNvPicPr/>
          <p:nvPr/>
        </p:nvPicPr>
        <p:blipFill>
          <a:blip r:embed="rId1"/>
          <a:stretch/>
        </p:blipFill>
        <p:spPr>
          <a:xfrm>
            <a:off x="0" y="0"/>
            <a:ext cx="13004640" cy="8356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181120"/>
            <a:ext cx="125236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ntroduction to iDevices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509760" y="7556400"/>
            <a:ext cx="98661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esentation by: Chelsea Bridg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01480" y="8334360"/>
            <a:ext cx="117255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IMC-VI's Working with the Experts -- December 6, 201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CS_2.jpg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3480" y="4533480"/>
            <a:ext cx="3735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5019840" y="3178080"/>
            <a:ext cx="7584840" cy="5662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User Guid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A app from Braille Institut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levis.co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ERnet Listserv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AAS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813.844.776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8" name="Picture 4" descr="asset.PNG"/>
          <p:cNvPicPr/>
          <p:nvPr/>
        </p:nvPicPr>
        <p:blipFill>
          <a:blip r:embed="rId2"/>
          <a:srcRect l="0" t="17650" r="0" b="17650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9" name="Picture 5" descr="InsertedImage.jpg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CS_4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4088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"/>
          <p:cNvSpPr/>
          <p:nvPr/>
        </p:nvSpPr>
        <p:spPr>
          <a:xfrm>
            <a:off x="1782720" y="816120"/>
            <a:ext cx="9080640" cy="4165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Q&amp;A</a:t>
            </a:r>
            <a:endParaRPr b="0" lang="en-US" sz="20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CS7.png"/>
          <p:cNvPicPr/>
          <p:nvPr/>
        </p:nvPicPr>
        <p:blipFill>
          <a:blip r:embed="rId1"/>
          <a:stretch/>
        </p:blipFill>
        <p:spPr>
          <a:xfrm>
            <a:off x="0" y="2882880"/>
            <a:ext cx="13004640" cy="6147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74422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lsea Bridges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ampa Lighthouse f/t Blind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813 . 251 . 2407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lsea.Bridges@tampalighthouse.org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1"/>
          <p:cNvSpPr/>
          <p:nvPr/>
        </p:nvSpPr>
        <p:spPr>
          <a:xfrm rot="21297000">
            <a:off x="2412720" y="3143160"/>
            <a:ext cx="4643280" cy="612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ypes of Devic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os and Con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Uses in our Fiel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 iPa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ori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9" name="Picture 2" descr="C2_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292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InsertedImage.jpg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848880" y="1182600"/>
            <a:ext cx="138924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61" name="Picture 4" descr="CS5.png"/>
          <p:cNvPicPr/>
          <p:nvPr/>
        </p:nvPicPr>
        <p:blipFill>
          <a:blip r:embed="rId3"/>
          <a:srcRect l="81318" t="4295" r="-2619" b="-12886"/>
          <a:stretch/>
        </p:blipFill>
        <p:spPr>
          <a:xfrm>
            <a:off x="9996480" y="1179360"/>
            <a:ext cx="2689200" cy="176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S5.png"/>
          <p:cNvPicPr/>
          <p:nvPr/>
        </p:nvPicPr>
        <p:blipFill>
          <a:blip r:embed="rId4"/>
          <a:srcRect l="41297" t="0" r="41297" b="0"/>
          <a:stretch/>
        </p:blipFill>
        <p:spPr>
          <a:xfrm>
            <a:off x="5226120" y="919080"/>
            <a:ext cx="2263680" cy="1676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InsertedImage.png"/>
          <p:cNvPicPr/>
          <p:nvPr/>
        </p:nvPicPr>
        <p:blipFill>
          <a:blip r:embed="rId5"/>
          <a:srcRect l="7789" t="-8912" r="-794" b="13696"/>
          <a:stretch/>
        </p:blipFill>
        <p:spPr>
          <a:xfrm flipH="1" rot="16638600">
            <a:off x="3245040" y="865440"/>
            <a:ext cx="1439640" cy="144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nsertedImage.png"/>
          <p:cNvPicPr/>
          <p:nvPr/>
        </p:nvPicPr>
        <p:blipFill>
          <a:blip r:embed="rId6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8">
            <a:hlinkClick r:id="rId7"/>
          </p:cNvPr>
          <p:cNvSpPr/>
          <p:nvPr/>
        </p:nvSpPr>
        <p:spPr>
          <a:xfrm>
            <a:off x="8385120" y="7877160"/>
            <a:ext cx="33591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95cc4"/>
                </a:solidFill>
                <a:latin typeface="Noteworthy Light"/>
                <a:ea typeface="Noteworthy Light"/>
              </a:rPr>
              <a:t>Papa's New iPa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31640" y="3595680"/>
            <a:ext cx="4891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od Touch 5th Generation</a:t>
            </a:r>
            <a:endParaRPr b="0" lang="en-US" sz="33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7" name="Picture 2" descr="CS_2.jpg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5267160" y="6588000"/>
            <a:ext cx="4694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with Retina Display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478800" y="3595680"/>
            <a:ext cx="2438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min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0" name="Picture 5" descr="InsertedImage.jpg"/>
          <p:cNvPicPr/>
          <p:nvPr/>
        </p:nvPicPr>
        <p:blipFill>
          <a:blip r:embed="rId2"/>
          <a:srcRect l="14287" t="0" r="14287" b="0"/>
          <a:stretch/>
        </p:blipFill>
        <p:spPr>
          <a:xfrm>
            <a:off x="722160" y="4854600"/>
            <a:ext cx="4310280" cy="386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nsertedImage.jpg"/>
          <p:cNvPicPr/>
          <p:nvPr/>
        </p:nvPicPr>
        <p:blipFill>
          <a:blip r:embed="rId3"/>
          <a:srcRect l="7244" t="6936" r="37685" b="3699"/>
          <a:stretch/>
        </p:blipFill>
        <p:spPr>
          <a:xfrm rot="760800">
            <a:off x="10139400" y="6356520"/>
            <a:ext cx="2316240" cy="294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InsertedImage.jpg"/>
          <p:cNvPicPr/>
          <p:nvPr/>
        </p:nvPicPr>
        <p:blipFill>
          <a:blip r:embed="rId4"/>
          <a:stretch/>
        </p:blipFill>
        <p:spPr>
          <a:xfrm rot="20436600">
            <a:off x="7567560" y="379368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>
            <a:off x="136440" y="2298600"/>
            <a:ext cx="4508640" cy="96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 iOS Family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2320" y="2513160"/>
            <a:ext cx="1892160" cy="11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o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660240" y="3789360"/>
            <a:ext cx="5295960" cy="5369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uilt-in accessibilit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instream devic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eachers can monitor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chools are purchasing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less expensiv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ortabl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570880" y="2816280"/>
            <a:ext cx="1495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on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6789600" y="3753000"/>
            <a:ext cx="5880240" cy="544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f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tudents off tas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ating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"everything" CANNOT be don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chool districts not allow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8" name="Picture 5" descr="CS_2.jpg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InsertedImage.jpg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172960" y="1186920"/>
            <a:ext cx="139068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0" name="Picture 7" descr="InsertedImage.jpg"/>
          <p:cNvPicPr/>
          <p:nvPr/>
        </p:nvPicPr>
        <p:blipFill>
          <a:blip r:embed="rId3"/>
          <a:stretch/>
        </p:blipFill>
        <p:spPr>
          <a:xfrm rot="1532400">
            <a:off x="8408880" y="504720"/>
            <a:ext cx="155412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CS_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88480" y="3422520"/>
            <a:ext cx="476892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Uses in our field ...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37000" y="5016600"/>
            <a:ext cx="3800160" cy="1217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raille Literacy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4" name="Picture 4" descr="InsertedImage.jpg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468160" y="1198440"/>
            <a:ext cx="138924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5" name="AutoShape 5"/>
          <p:cNvSpPr/>
          <p:nvPr/>
        </p:nvSpPr>
        <p:spPr>
          <a:xfrm>
            <a:off x="8839080" y="7431120"/>
            <a:ext cx="2005200" cy="156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O&amp;M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5213520" y="6178680"/>
            <a:ext cx="4186080" cy="143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Educational Tool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7" name="Picture 7" descr="InsertedImage.jpg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"/>
          <p:cNvSpPr/>
          <p:nvPr/>
        </p:nvSpPr>
        <p:spPr>
          <a:xfrm>
            <a:off x="479520" y="128520"/>
            <a:ext cx="2989080" cy="167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Noteworthy Bold"/>
                <a:ea typeface="Noteworthy Bold"/>
              </a:rPr>
              <a:t>iPad</a:t>
            </a:r>
            <a:endParaRPr b="0" lang="en-US" sz="7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9" name="AutoShape 2"/>
          <p:cNvSpPr/>
          <p:nvPr/>
        </p:nvSpPr>
        <p:spPr>
          <a:xfrm flipH="1" rot="2700000">
            <a:off x="5790960" y="6202080"/>
            <a:ext cx="533160" cy="53316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d3f2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789120" y="425520"/>
            <a:ext cx="11786040" cy="9270000"/>
            <a:chOff x="789120" y="425520"/>
            <a:chExt cx="11786040" cy="9270000"/>
          </a:xfrm>
        </p:grpSpPr>
        <p:pic>
          <p:nvPicPr>
            <p:cNvPr id="191" name="Picture 4" descr="InsertedImage.jpg"/>
            <p:cNvPicPr/>
            <p:nvPr/>
          </p:nvPicPr>
          <p:blipFill>
            <a:blip r:embed="rId1"/>
            <a:srcRect l="23419" t="0" r="24941" b="0"/>
            <a:stretch/>
          </p:blipFill>
          <p:spPr>
            <a:xfrm>
              <a:off x="4023360" y="1972800"/>
              <a:ext cx="5395320" cy="652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5"/>
            <p:cNvGrpSpPr/>
            <p:nvPr/>
          </p:nvGrpSpPr>
          <p:grpSpPr>
            <a:xfrm>
              <a:off x="3085200" y="819360"/>
              <a:ext cx="3372120" cy="1734120"/>
              <a:chOff x="3085200" y="819360"/>
              <a:chExt cx="3372120" cy="1734120"/>
            </a:xfrm>
          </p:grpSpPr>
          <p:sp>
            <p:nvSpPr>
              <p:cNvPr id="193" name="AutoShape 6"/>
              <p:cNvSpPr/>
              <p:nvPr/>
            </p:nvSpPr>
            <p:spPr>
              <a:xfrm>
                <a:off x="3085200" y="819360"/>
                <a:ext cx="3372120" cy="1337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eadphone jack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4" name="Line 7"/>
              <p:cNvSpPr/>
              <p:nvPr/>
            </p:nvSpPr>
            <p:spPr>
              <a:xfrm flipH="1" flipV="1">
                <a:off x="4674600" y="1938600"/>
                <a:ext cx="611280" cy="61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95" name="Group 8"/>
            <p:cNvGrpSpPr/>
            <p:nvPr/>
          </p:nvGrpSpPr>
          <p:grpSpPr>
            <a:xfrm>
              <a:off x="7743960" y="425520"/>
              <a:ext cx="4158000" cy="1849320"/>
              <a:chOff x="7743960" y="425520"/>
              <a:chExt cx="4158000" cy="1849320"/>
            </a:xfrm>
          </p:grpSpPr>
          <p:sp>
            <p:nvSpPr>
              <p:cNvPr id="196" name="AutoShape 9"/>
              <p:cNvSpPr/>
              <p:nvPr/>
            </p:nvSpPr>
            <p:spPr>
              <a:xfrm>
                <a:off x="7821720" y="425520"/>
                <a:ext cx="4080240" cy="1392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leep/Wake butto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 flipV="1">
                <a:off x="7743960" y="1559880"/>
                <a:ext cx="702360" cy="71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98" name="Group 11"/>
            <p:cNvGrpSpPr/>
            <p:nvPr/>
          </p:nvGrpSpPr>
          <p:grpSpPr>
            <a:xfrm>
              <a:off x="8987040" y="2556720"/>
              <a:ext cx="3588120" cy="1049760"/>
              <a:chOff x="8987040" y="2556720"/>
              <a:chExt cx="3588120" cy="1049760"/>
            </a:xfrm>
          </p:grpSpPr>
          <p:sp>
            <p:nvSpPr>
              <p:cNvPr id="199" name="AutoShape 12"/>
              <p:cNvSpPr/>
              <p:nvPr/>
            </p:nvSpPr>
            <p:spPr>
              <a:xfrm>
                <a:off x="9678600" y="2556720"/>
                <a:ext cx="2896560" cy="104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lide switch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 flipV="1">
                <a:off x="8987040" y="3067200"/>
                <a:ext cx="8823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1" name="Group 14"/>
            <p:cNvGrpSpPr/>
            <p:nvPr/>
          </p:nvGrpSpPr>
          <p:grpSpPr>
            <a:xfrm>
              <a:off x="8745480" y="3684240"/>
              <a:ext cx="3550680" cy="1227960"/>
              <a:chOff x="8745480" y="3684240"/>
              <a:chExt cx="3550680" cy="1227960"/>
            </a:xfrm>
          </p:grpSpPr>
          <p:sp>
            <p:nvSpPr>
              <p:cNvPr id="202" name="AutoShape 15"/>
              <p:cNvSpPr/>
              <p:nvPr/>
            </p:nvSpPr>
            <p:spPr>
              <a:xfrm>
                <a:off x="9319320" y="3758760"/>
                <a:ext cx="2976840" cy="1153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Volume control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3" name="Line 16"/>
              <p:cNvSpPr/>
              <p:nvPr/>
            </p:nvSpPr>
            <p:spPr>
              <a:xfrm>
                <a:off x="8745480" y="3684240"/>
                <a:ext cx="82764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4" name="Group 17"/>
            <p:cNvGrpSpPr/>
            <p:nvPr/>
          </p:nvGrpSpPr>
          <p:grpSpPr>
            <a:xfrm>
              <a:off x="6460560" y="8404200"/>
              <a:ext cx="3170880" cy="1291320"/>
              <a:chOff x="6460560" y="8404200"/>
              <a:chExt cx="3170880" cy="1291320"/>
            </a:xfrm>
          </p:grpSpPr>
          <p:sp>
            <p:nvSpPr>
              <p:cNvPr id="205" name="AutoShape 18"/>
              <p:cNvSpPr/>
              <p:nvPr/>
            </p:nvSpPr>
            <p:spPr>
              <a:xfrm>
                <a:off x="6590520" y="8404200"/>
                <a:ext cx="3040920" cy="1291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ome butto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6" name="Line 19"/>
              <p:cNvSpPr/>
              <p:nvPr/>
            </p:nvSpPr>
            <p:spPr>
              <a:xfrm>
                <a:off x="6460560" y="8456400"/>
                <a:ext cx="369360" cy="37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7" name="Group 20"/>
            <p:cNvGrpSpPr/>
            <p:nvPr/>
          </p:nvGrpSpPr>
          <p:grpSpPr>
            <a:xfrm>
              <a:off x="789120" y="5056200"/>
              <a:ext cx="3588120" cy="834120"/>
              <a:chOff x="789120" y="5056200"/>
              <a:chExt cx="3588120" cy="834120"/>
            </a:xfrm>
          </p:grpSpPr>
          <p:sp>
            <p:nvSpPr>
              <p:cNvPr id="208" name="AutoShape 21"/>
              <p:cNvSpPr/>
              <p:nvPr/>
            </p:nvSpPr>
            <p:spPr>
              <a:xfrm>
                <a:off x="789120" y="5056200"/>
                <a:ext cx="2988720" cy="83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ome scree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3676680" y="5582160"/>
                <a:ext cx="700560" cy="1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10" name="Group 23"/>
            <p:cNvGrpSpPr/>
            <p:nvPr/>
          </p:nvGrpSpPr>
          <p:grpSpPr>
            <a:xfrm>
              <a:off x="1283760" y="6666840"/>
              <a:ext cx="2813760" cy="834120"/>
              <a:chOff x="1283760" y="6666840"/>
              <a:chExt cx="2813760" cy="834120"/>
            </a:xfrm>
          </p:grpSpPr>
          <p:sp>
            <p:nvSpPr>
              <p:cNvPr id="211" name="AutoShape 24"/>
              <p:cNvSpPr/>
              <p:nvPr/>
            </p:nvSpPr>
            <p:spPr>
              <a:xfrm>
                <a:off x="1283760" y="6666840"/>
                <a:ext cx="2106360" cy="83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Dock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 flipH="1" flipV="1">
                <a:off x="2990520" y="7166880"/>
                <a:ext cx="1107000" cy="16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13" name="Group 26"/>
            <p:cNvGrpSpPr/>
            <p:nvPr/>
          </p:nvGrpSpPr>
          <p:grpSpPr>
            <a:xfrm>
              <a:off x="1220400" y="3393720"/>
              <a:ext cx="3271320" cy="1366200"/>
              <a:chOff x="1220400" y="3393720"/>
              <a:chExt cx="3271320" cy="1366200"/>
            </a:xfrm>
          </p:grpSpPr>
          <p:sp>
            <p:nvSpPr>
              <p:cNvPr id="214" name="AutoShape 27"/>
              <p:cNvSpPr/>
              <p:nvPr/>
            </p:nvSpPr>
            <p:spPr>
              <a:xfrm>
                <a:off x="1220400" y="3717720"/>
                <a:ext cx="2581920" cy="1042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tatus bar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5" name="Line 28"/>
              <p:cNvSpPr/>
              <p:nvPr/>
            </p:nvSpPr>
            <p:spPr>
              <a:xfrm flipH="1">
                <a:off x="3622320" y="3393720"/>
                <a:ext cx="869400" cy="51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CS_2.jpg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7680" y="2763360"/>
            <a:ext cx="37800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uilt In App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861840" y="4057560"/>
            <a:ext cx="4133880" cy="5270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aceTim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hoto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amer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lo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hoto Booth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19" name="Picture 4" descr="InsertedImage.jpg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0" name="Picture 5" descr="InsertedImage.jpg"/>
          <p:cNvPicPr/>
          <p:nvPr/>
        </p:nvPicPr>
        <p:blipFill>
          <a:blip r:embed="rId3"/>
          <a:stretch/>
        </p:blipFill>
        <p:spPr>
          <a:xfrm rot="1532400">
            <a:off x="8237520" y="44280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5113440" y="4057560"/>
            <a:ext cx="3022560" cy="5270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alenda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mind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Newsst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Tun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 Stor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9356760" y="3922560"/>
            <a:ext cx="3022560" cy="408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Game Center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afar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deo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CS_2.jpg"/>
          <p:cNvPicPr/>
          <p:nvPr/>
        </p:nvPicPr>
        <p:blipFill>
          <a:blip r:embed="rId1"/>
          <a:stretch/>
        </p:blipFill>
        <p:spPr>
          <a:xfrm>
            <a:off x="0" y="-455760"/>
            <a:ext cx="13004640" cy="299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02040" y="2268000"/>
            <a:ext cx="402120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ibility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63400" y="8131320"/>
            <a:ext cx="2087640" cy="108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Dictation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376440" y="8985240"/>
            <a:ext cx="1270080" cy="4316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668760" y="9074160"/>
            <a:ext cx="698400" cy="216000"/>
          </a:xfrm>
          <a:custGeom>
            <a:avLst/>
            <a:gdLst>
              <a:gd name="textAreaLeft" fmla="*/ 0 w 698400"/>
              <a:gd name="textAreaRight" fmla="*/ 698760 w 6984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3376440" y="7931160"/>
            <a:ext cx="1267560" cy="1267560"/>
            <a:chOff x="3376440" y="7931160"/>
            <a:chExt cx="1267560" cy="1267560"/>
          </a:xfrm>
        </p:grpSpPr>
        <p:sp>
          <p:nvSpPr>
            <p:cNvPr id="229" name="AutoShape 7"/>
            <p:cNvSpPr/>
            <p:nvPr/>
          </p:nvSpPr>
          <p:spPr>
            <a:xfrm>
              <a:off x="3376440" y="7931160"/>
              <a:ext cx="1267560" cy="1267560"/>
            </a:xfrm>
            <a:custGeom>
              <a:avLst/>
              <a:gdLst>
                <a:gd name="textAreaLeft" fmla="*/ 0 w 1267560"/>
                <a:gd name="textAreaRight" fmla="*/ 1267920 w 1267560"/>
                <a:gd name="textAreaTop" fmla="*/ 0 h 1267560"/>
                <a:gd name="textAreaBottom" fmla="*/ 1267920 h 1267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a0d71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3629160" y="8134920"/>
              <a:ext cx="772920" cy="85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Siri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31" name="AutoShape 9"/>
          <p:cNvSpPr/>
          <p:nvPr/>
        </p:nvSpPr>
        <p:spPr>
          <a:xfrm>
            <a:off x="876240" y="6049800"/>
            <a:ext cx="1309680" cy="9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oice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3376440" y="7013520"/>
            <a:ext cx="1270080" cy="432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3668760" y="7102440"/>
            <a:ext cx="698400" cy="216000"/>
          </a:xfrm>
          <a:custGeom>
            <a:avLst/>
            <a:gdLst>
              <a:gd name="textAreaLeft" fmla="*/ 0 w 698400"/>
              <a:gd name="textAreaRight" fmla="*/ 698760 w 6984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3376440" y="5965920"/>
            <a:ext cx="1267560" cy="1267560"/>
            <a:chOff x="3376440" y="5965920"/>
            <a:chExt cx="1267560" cy="1267560"/>
          </a:xfrm>
        </p:grpSpPr>
        <p:sp>
          <p:nvSpPr>
            <p:cNvPr id="235" name="AutoShape 13"/>
            <p:cNvSpPr/>
            <p:nvPr/>
          </p:nvSpPr>
          <p:spPr>
            <a:xfrm>
              <a:off x="3376440" y="5965920"/>
              <a:ext cx="1267560" cy="1267560"/>
            </a:xfrm>
            <a:custGeom>
              <a:avLst/>
              <a:gdLst>
                <a:gd name="textAreaLeft" fmla="*/ 0 w 1267560"/>
                <a:gd name="textAreaRight" fmla="*/ 1267920 w 1267560"/>
                <a:gd name="textAreaTop" fmla="*/ 0 h 1267560"/>
                <a:gd name="textAreaBottom" fmla="*/ 1267920 h 1267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4bc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6" name="AutoShape 14"/>
            <p:cNvSpPr/>
            <p:nvPr/>
          </p:nvSpPr>
          <p:spPr>
            <a:xfrm>
              <a:off x="3617640" y="6092280"/>
              <a:ext cx="784440" cy="862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VO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37" name="AutoShape 15"/>
          <p:cNvSpPr/>
          <p:nvPr/>
        </p:nvSpPr>
        <p:spPr>
          <a:xfrm>
            <a:off x="6080040" y="7013520"/>
            <a:ext cx="1270080" cy="432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6372360" y="7102440"/>
            <a:ext cx="698400" cy="216000"/>
          </a:xfrm>
          <a:custGeom>
            <a:avLst/>
            <a:gdLst>
              <a:gd name="textAreaLeft" fmla="*/ 0 w 698400"/>
              <a:gd name="textAreaRight" fmla="*/ 698760 w 6984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39" name="Group 17"/>
          <p:cNvGrpSpPr/>
          <p:nvPr/>
        </p:nvGrpSpPr>
        <p:grpSpPr>
          <a:xfrm>
            <a:off x="6041880" y="5959440"/>
            <a:ext cx="1329480" cy="1267560"/>
            <a:chOff x="6041880" y="5959440"/>
            <a:chExt cx="1329480" cy="1267560"/>
          </a:xfrm>
        </p:grpSpPr>
        <p:sp>
          <p:nvSpPr>
            <p:cNvPr id="240" name="AutoShape 18"/>
            <p:cNvSpPr/>
            <p:nvPr/>
          </p:nvSpPr>
          <p:spPr>
            <a:xfrm>
              <a:off x="6090120" y="5959440"/>
              <a:ext cx="1269720" cy="126756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267560"/>
                <a:gd name="textAreaBottom" fmla="*/ 1267920 h 1267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4bc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1" name="AutoShape 19"/>
            <p:cNvSpPr/>
            <p:nvPr/>
          </p:nvSpPr>
          <p:spPr>
            <a:xfrm>
              <a:off x="6041880" y="6163200"/>
              <a:ext cx="1329480" cy="85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Speak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42" name="AutoShape 20"/>
          <p:cNvSpPr/>
          <p:nvPr/>
        </p:nvSpPr>
        <p:spPr>
          <a:xfrm>
            <a:off x="571680" y="3981600"/>
            <a:ext cx="2097000" cy="120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sual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172200" y="5041800"/>
            <a:ext cx="1270080" cy="432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464160" y="5130720"/>
            <a:ext cx="698760" cy="216000"/>
          </a:xfrm>
          <a:custGeom>
            <a:avLst/>
            <a:gdLst>
              <a:gd name="textAreaLeft" fmla="*/ 0 w 698760"/>
              <a:gd name="textAreaRight" fmla="*/ 699120 w 698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6159600" y="3981600"/>
            <a:ext cx="1273680" cy="1273680"/>
            <a:chOff x="6159600" y="3981600"/>
            <a:chExt cx="1273680" cy="1273680"/>
          </a:xfrm>
        </p:grpSpPr>
        <p:sp>
          <p:nvSpPr>
            <p:cNvPr id="246" name="AutoShape 24"/>
            <p:cNvSpPr/>
            <p:nvPr/>
          </p:nvSpPr>
          <p:spPr>
            <a:xfrm>
              <a:off x="6159600" y="3981600"/>
              <a:ext cx="1273680" cy="1273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7" name="AutoShape 25"/>
            <p:cNvSpPr/>
            <p:nvPr/>
          </p:nvSpPr>
          <p:spPr>
            <a:xfrm>
              <a:off x="6274080" y="4184640"/>
              <a:ext cx="93276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Text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48" name="AutoShape 26"/>
          <p:cNvSpPr/>
          <p:nvPr/>
        </p:nvSpPr>
        <p:spPr>
          <a:xfrm>
            <a:off x="3467160" y="5041800"/>
            <a:ext cx="1270080" cy="432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3759120" y="5130720"/>
            <a:ext cx="698760" cy="216000"/>
          </a:xfrm>
          <a:custGeom>
            <a:avLst/>
            <a:gdLst>
              <a:gd name="textAreaLeft" fmla="*/ 0 w 698760"/>
              <a:gd name="textAreaRight" fmla="*/ 699120 w 698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50" name="Group 28"/>
          <p:cNvGrpSpPr/>
          <p:nvPr/>
        </p:nvGrpSpPr>
        <p:grpSpPr>
          <a:xfrm>
            <a:off x="3454560" y="3981600"/>
            <a:ext cx="1292400" cy="1273680"/>
            <a:chOff x="3454560" y="3981600"/>
            <a:chExt cx="1292400" cy="1273680"/>
          </a:xfrm>
        </p:grpSpPr>
        <p:sp>
          <p:nvSpPr>
            <p:cNvPr id="251" name="AutoShape 29"/>
            <p:cNvSpPr/>
            <p:nvPr/>
          </p:nvSpPr>
          <p:spPr>
            <a:xfrm>
              <a:off x="3454560" y="3981600"/>
              <a:ext cx="1276560" cy="127368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3680"/>
                <a:gd name="textAreaBottom" fmla="*/ 1273680 h 1273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2" name="AutoShape 30"/>
            <p:cNvSpPr/>
            <p:nvPr/>
          </p:nvSpPr>
          <p:spPr>
            <a:xfrm rot="13200">
              <a:off x="3465720" y="4184280"/>
              <a:ext cx="127944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Zoom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53" name="AutoShape 31"/>
          <p:cNvSpPr/>
          <p:nvPr/>
        </p:nvSpPr>
        <p:spPr>
          <a:xfrm>
            <a:off x="8678880" y="5041800"/>
            <a:ext cx="1270080" cy="432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4" name="AutoShape 32"/>
          <p:cNvSpPr/>
          <p:nvPr/>
        </p:nvSpPr>
        <p:spPr>
          <a:xfrm>
            <a:off x="8970840" y="5130720"/>
            <a:ext cx="698760" cy="216000"/>
          </a:xfrm>
          <a:custGeom>
            <a:avLst/>
            <a:gdLst>
              <a:gd name="textAreaLeft" fmla="*/ 0 w 698760"/>
              <a:gd name="textAreaRight" fmla="*/ 699120 w 698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55" name="Group 33"/>
          <p:cNvGrpSpPr/>
          <p:nvPr/>
        </p:nvGrpSpPr>
        <p:grpSpPr>
          <a:xfrm>
            <a:off x="8666280" y="3981600"/>
            <a:ext cx="1273680" cy="1273680"/>
            <a:chOff x="8666280" y="3981600"/>
            <a:chExt cx="1273680" cy="1273680"/>
          </a:xfrm>
        </p:grpSpPr>
        <p:sp>
          <p:nvSpPr>
            <p:cNvPr id="256" name="AutoShape 34"/>
            <p:cNvSpPr/>
            <p:nvPr/>
          </p:nvSpPr>
          <p:spPr>
            <a:xfrm>
              <a:off x="8666280" y="3981600"/>
              <a:ext cx="1273680" cy="1273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8717760" y="4184640"/>
              <a:ext cx="118476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Color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258" name="Picture 36" descr="asset.png"/>
          <p:cNvPicPr/>
          <p:nvPr/>
        </p:nvPicPr>
        <p:blipFill>
          <a:blip r:embed="rId2"/>
          <a:srcRect l="0" t="17650" r="0" b="17650"/>
          <a:stretch/>
        </p:blipFill>
        <p:spPr>
          <a:xfrm rot="984600">
            <a:off x="2468520" y="743040"/>
            <a:ext cx="1389240" cy="5968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9" name="Picture 37" descr="InsertedImage.jpg"/>
          <p:cNvPicPr/>
          <p:nvPr/>
        </p:nvPicPr>
        <p:blipFill>
          <a:blip r:embed="rId3"/>
          <a:stretch/>
        </p:blipFill>
        <p:spPr>
          <a:xfrm rot="1532400">
            <a:off x="8543880" y="23328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CS_2.jpg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33480" y="4533480"/>
            <a:ext cx="3735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orie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2" name="AutoShape 3"/>
          <p:cNvSpPr/>
          <p:nvPr/>
        </p:nvSpPr>
        <p:spPr>
          <a:xfrm rot="621000">
            <a:off x="5095440" y="3390840"/>
            <a:ext cx="7583400" cy="5662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luetooth keyboar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freshable Braille displa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joysti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licator sti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key guar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3" name="Picture 4" descr="asset.PNG"/>
          <p:cNvPicPr/>
          <p:nvPr/>
        </p:nvPicPr>
        <p:blipFill>
          <a:blip r:embed="rId2"/>
          <a:srcRect l="0" t="17650" r="0" b="17650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4" name="Picture 5" descr="InsertedImage.jpg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y Ratzlaff</dc:creator>
  <dc:description/>
  <dc:language>en-US</dc:language>
  <cp:lastModifiedBy>Kay Ratzlaff</cp:lastModifiedBy>
  <dcterms:modified xsi:type="dcterms:W3CDTF">2012-12-07T02:34:09Z</dcterms:modified>
  <cp:revision>1</cp:revision>
  <dc:subject/>
  <dc:title>Introduction to iDevices</dc:title>
</cp:coreProperties>
</file>